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98064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 Фармацеутска етика са историјом фармације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дриана Букоњ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itle 1"/>
          <p:cNvSpPr/>
          <p:nvPr/>
        </p:nvSpPr>
        <p:spPr>
          <a:xfrm>
            <a:off x="214200" y="35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 у историју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 открића значајна за развој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5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ипат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начајна су три историјска раздо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730520"/>
            <a:ext cx="82296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480960" y="1981080"/>
            <a:ext cx="8089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к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 утицај да се наука помери са Истока према Зап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9656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култура која не повезује науку са мистиком и сујеверј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 и фармација су засноване на научном посматрању природе и човека (искуства и дока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 мишљење је потпуно одвојено од рели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 me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јада” и „Одисеј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Diagram 3" descr=""/>
          <p:cNvPicPr/>
          <p:nvPr/>
        </p:nvPicPr>
        <p:blipFill>
          <a:blip r:embed="rId1"/>
          <a:stretch/>
        </p:blipFill>
        <p:spPr>
          <a:xfrm>
            <a:off x="969840" y="3975120"/>
            <a:ext cx="56930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рат и Хипократова закле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2440" y="1270080"/>
            <a:ext cx="8688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рат током путовања у Индији и Египту и свим источним земљама прикупља медицинска знања и веш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о је темеље неуропсихијат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ратова заклетва-најзначајнија формулација етичких принипа и на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Хипократова заклетна и Хипократово де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евска формулација Хипократове заклетве” – 19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авеза да се пружи стручна помоћ без обзира на расу, националну  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припадност, веру и политичка уве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авеза да се стручно знање не сме користити супротно законима   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хума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и фармацеутски кодекс” – 19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токси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стварања Римског царства медицина и фармација су на нижем степену разво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9656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 фармације и медицине кроз три пери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Diagram 5" descr=""/>
          <p:cNvPicPr/>
          <p:nvPr/>
        </p:nvPicPr>
        <p:blipFill>
          <a:blip r:embed="rId1"/>
          <a:stretch/>
        </p:blipFill>
        <p:spPr>
          <a:xfrm>
            <a:off x="407880" y="2541600"/>
            <a:ext cx="8278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антиј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оделом Римског царства на источни и западни де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9656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медицине се поново враћа у источне земље, а потом  преузима арапска 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узета знања од старих народа Византија усавршава под утицајем Салернске медицинске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 развој науке и културе дешава се за време владавине цара Јустинијана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 на подручју Срб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е и апотеке се отварају у манастирима (повезаност медицине и религ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психијатра и утицај психичког стања на здрављ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ишћански лекаро-апотекари Козма и Дамј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антијска медицина има велики утицај на земље Источне Европе и Бал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ер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 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907640"/>
            <a:ext cx="8964720" cy="49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средњевековна школ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воростепено образова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степен – лекаро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отек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чки – наставници у медицинским школ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ster – за бављење научним дисципли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es – потпуно самостално бављење нау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у су похађали припадници оба 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овање се базира на античкој медицини и фарм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рмакопе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е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 ед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двајање струке лекаро-апотекара (лекар и фармаце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принос развоју фармације и медицине у стручном и етичком аспек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пска медицина и фармациј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ви записи се са грчког и латинског језика преводе на арапски јез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9656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 се у три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Diagram 3" descr=""/>
          <p:cNvPicPr/>
          <p:nvPr/>
        </p:nvPicPr>
        <p:blipFill>
          <a:blip r:embed="rId1"/>
          <a:stretch/>
        </p:blipFill>
        <p:spPr>
          <a:xfrm>
            <a:off x="407880" y="2541600"/>
            <a:ext cx="8278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х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907640"/>
            <a:ext cx="8964720" cy="49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период од 19. векова (300. година п.н.е до 1600. годи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гнацијом медицине и фармације у средњем веку почиње значајан развој алх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основна принци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(претварање неплеменитих метала у племени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итуалистички (пречишћавање душе и постизање бесмрт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ен је велики број нових супстанци и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lsu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лужан што је хемија постала део фармације (у справљању лекова користи и неорганске супстанце и уводи могућност добијања лекова синтетским пут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401760" y="1871640"/>
            <a:ext cx="8626320" cy="50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 открића значајна за развој фарм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: проф. др Бојана Петр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 фармациј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ем настанка и целокупног развоја фармације од њених зачетака до данас, са стручног, научног, техничког, правног, етичког и друштвеног асп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79280" y="2349360"/>
            <a:ext cx="86407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кидна борба човека против болести стара је колико и само човечанство и још увек траје</a:t>
            </a:r>
            <a:r>
              <a:rPr b="0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ски развој медицине и фарм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2565360"/>
          <a:ext cx="8229600" cy="3660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јски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а која лечи и прописује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а која припрема лек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вобитна заје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а (мајк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и 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ки лек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ште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њи 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о-апотекар (од 1240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рно д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отек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 током развоја фарм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у праисто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старих источних кул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чка фа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евековна фа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44600" y="3068640"/>
            <a:ext cx="6215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јужној Азији и североисточној Африци забележени су први подаци о изради лекова и лечењ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јвећи допринос развоја медицине дају образовани царе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G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G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акупункту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медицинског дејства биљ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 дијагностичке и терапијске тех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научних сазнања под утицајем рели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ини је и данас присутан спој традиционалне и модерне медицине и фарм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"/>
          <p:cNvSpPr/>
          <p:nvPr/>
        </p:nvSpPr>
        <p:spPr>
          <a:xfrm>
            <a:off x="457200" y="1125360"/>
            <a:ext cx="8229600" cy="129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 1" descr=""/>
          <p:cNvPicPr/>
          <p:nvPr/>
        </p:nvPicPr>
        <p:blipFill>
          <a:blip r:embed="rId1"/>
          <a:stretch/>
        </p:blipFill>
        <p:spPr>
          <a:xfrm>
            <a:off x="853920" y="2103480"/>
            <a:ext cx="7809120" cy="4589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47560" y="105264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ј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дицина и фармација се развијају кроз три периода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5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пота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тарији медицински записи (око 2500. година п.н.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у углавном биљног порекла и најчешће се употребљавају у облику ме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записи о свим облицима лекова, осим инј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ена су прва ужа усмерена звањ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кар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pu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еча апотекара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s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„Апотека” – складиште, простор за чување и сушење биља и посуђ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бол „змија око штапа” среће се први 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едовање фармације и прва „фармакопеја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5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1736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 заснована на религ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на високом нивоу (употреба минералних куп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рц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а циркумцизија и забрана свињског меса у циљу превенције туберкул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Windows User</cp:lastModifiedBy>
  <dcterms:modified xsi:type="dcterms:W3CDTF">2020-09-16T17:43:50Z</dcterms:modified>
  <cp:revision>184</cp:revision>
  <dc:subject/>
  <dc:title>Slide 1</dc:title>
</cp:coreProperties>
</file>